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DE51D-E9AC-4DAE-B3FF-2E45D9DDC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5490-90BF-45EB-BB16-426D11EB4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0B00-64C2-4DBA-A154-C5C415529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A5D6-04F5-4D55-840E-A51B88DA9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2DA9-3324-448C-8746-1F67EE44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F2FEF-00A0-4CA4-9E13-59AAB2698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3C71-DF2B-4B82-BBA3-4DFB22E90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094FE-469A-417E-A00B-F08F756C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22F83-B703-4729-956D-C92E7396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2AE7-6F2E-4582-8EFA-AFFC3BED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5FD9-EB62-4FC2-AD80-52D71C2F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4B01-7C2A-4937-B90E-5DE856CA7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4F43-6268-458B-84F5-43B4E6C0DD36}"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43280" y="3141720"/>
            <a:ext cx="3429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5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9-27T10:14:12Z</dcterms:modified>
  <cp:revision>39</cp:revision>
  <dc:subject/>
  <dc:title>SALARIUL</dc:title>
</cp:coreProperties>
</file>